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7CC5-797A-4364-9BB1-E39EE2A6B8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1E60-C95C-4796-9A90-E018E95CA2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n schriftlichen Weisungen ist kein Stoffname und keine Stoffnummer vorhanden. Einsatzkräfte können keinen Rückschl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7486-0E67-4D89-8BF3-9709A10884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n schriftlichen Weisungen ist kein Stoffname und keine Stoffnummer vorhanden. Einsatzkräfte können keinen Rückschl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feld 1"/>
          <p:cNvSpPr/>
          <p:nvPr/>
        </p:nvSpPr>
        <p:spPr>
          <a:xfrm>
            <a:off x="7343640" y="247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B II.3 Tech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836640"/>
            <a:ext cx="9144000" cy="468360"/>
          </a:xfrm>
          <a:prstGeom prst="roundRect">
            <a:avLst>
              <a:gd name="adj" fmla="val 241"/>
            </a:avLst>
          </a:prstGeom>
          <a:gradFill rotWithShape="0">
            <a:gsLst>
              <a:gs pos="0">
                <a:srgbClr val="e0003c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feld 1"/>
          <p:cNvSpPr/>
          <p:nvPr/>
        </p:nvSpPr>
        <p:spPr>
          <a:xfrm>
            <a:off x="324000" y="8827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nformationsmöglichkeiten Pr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uppieren 5"/>
          <p:cNvGrpSpPr/>
          <p:nvPr/>
        </p:nvGrpSpPr>
        <p:grpSpPr>
          <a:xfrm>
            <a:off x="179280" y="115920"/>
            <a:ext cx="3434040" cy="878400"/>
            <a:chOff x="179280" y="115920"/>
            <a:chExt cx="3434040" cy="878400"/>
          </a:xfrm>
        </p:grpSpPr>
        <p:sp>
          <p:nvSpPr>
            <p:cNvPr id="4" name="Text Box 2"/>
            <p:cNvSpPr/>
            <p:nvPr/>
          </p:nvSpPr>
          <p:spPr>
            <a:xfrm>
              <a:off x="1523880" y="230040"/>
              <a:ext cx="20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dddddd"/>
                  </a:solidFill>
                  <a:latin typeface="Arial Black"/>
                </a:rPr>
                <a:t>NAB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9" descr="Wappen_farb_18mm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48096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10"/>
            <p:cNvSpPr/>
            <p:nvPr/>
          </p:nvSpPr>
          <p:spPr>
            <a:xfrm>
              <a:off x="695160" y="163440"/>
              <a:ext cx="291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iedersächsische Akademie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ür Brand- und Katastrophenschu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feld 1"/>
          <p:cNvSpPr/>
          <p:nvPr/>
        </p:nvSpPr>
        <p:spPr>
          <a:xfrm>
            <a:off x="17640" y="2708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Beispiele und Hilfsmitt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für die praktische Ausbildu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81440" y="126828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schenk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rzinformations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04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06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" name="Text Box 10"/>
          <p:cNvSpPr/>
          <p:nvPr/>
        </p:nvSpPr>
        <p:spPr>
          <a:xfrm>
            <a:off x="6202080" y="3500280"/>
            <a:ext cx="73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aschen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80640" y="2492280"/>
            <a:ext cx="42393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ick-Zettel“ für Einsätze und Ü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 rot="5400000">
            <a:off x="2807280" y="440640"/>
            <a:ext cx="360360" cy="5473440"/>
          </a:xfrm>
          <a:custGeom>
            <a:avLst/>
            <a:gdLst>
              <a:gd name="textAreaLeft" fmla="*/ 0 w 360360"/>
              <a:gd name="textAreaRight" fmla="*/ 129960 w 36036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090423-OV-taschenkarte"/>
          <p:cNvPicPr/>
          <p:nvPr/>
        </p:nvPicPr>
        <p:blipFill>
          <a:blip r:embed="rId4"/>
          <a:stretch/>
        </p:blipFill>
        <p:spPr>
          <a:xfrm>
            <a:off x="1886040" y="3402000"/>
            <a:ext cx="2190600" cy="33148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8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7840" y="126828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buch der gefährlichen Stoffe und Gü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17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19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" name="Text Box 10"/>
          <p:cNvSpPr/>
          <p:nvPr/>
        </p:nvSpPr>
        <p:spPr>
          <a:xfrm>
            <a:off x="6202440" y="350028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9920" y="2492280"/>
            <a:ext cx="27532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isches Verzeich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200760" y="2492280"/>
            <a:ext cx="2968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isches Verzeich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2627280" y="2924280"/>
            <a:ext cx="1008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8" descr="090423-OV-hommel-2789"/>
          <p:cNvPicPr/>
          <p:nvPr/>
        </p:nvPicPr>
        <p:blipFill>
          <a:blip r:embed="rId4"/>
          <a:stretch/>
        </p:blipFill>
        <p:spPr>
          <a:xfrm>
            <a:off x="1957320" y="3541680"/>
            <a:ext cx="2346480" cy="331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19" descr="090423-OV-hommel-gefahrendiamant-2789"/>
          <p:cNvPicPr/>
          <p:nvPr/>
        </p:nvPicPr>
        <p:blipFill>
          <a:blip r:embed="rId5"/>
          <a:stretch/>
        </p:blipFill>
        <p:spPr>
          <a:xfrm>
            <a:off x="395280" y="4005360"/>
            <a:ext cx="1317600" cy="1584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0"/>
          <p:cNvSpPr/>
          <p:nvPr/>
        </p:nvSpPr>
        <p:spPr>
          <a:xfrm>
            <a:off x="398520" y="56610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nell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77840" y="126828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buch der gefährlichen Stoffe und Gü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rcRect l="16165" t="17618" r="3309" b="36631"/>
          <a:stretch/>
        </p:blipFill>
        <p:spPr>
          <a:xfrm>
            <a:off x="324000" y="1989000"/>
            <a:ext cx="867564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324000" y="1906560"/>
            <a:ext cx="7993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ort- und Gefahrenkl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au = Gesundheits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 = Brand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lb = Reaktions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- und Einsatzmaß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wässerverunrein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83960" y="126828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ändigkeits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stellerinfor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35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37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 Box 10"/>
          <p:cNvSpPr/>
          <p:nvPr/>
        </p:nvSpPr>
        <p:spPr>
          <a:xfrm>
            <a:off x="6102360" y="34290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st.-keit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30320" y="2514600"/>
            <a:ext cx="38289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en der Produkthers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 rot="5400000">
            <a:off x="2771640" y="1197000"/>
            <a:ext cx="360360" cy="3960720"/>
          </a:xfrm>
          <a:custGeom>
            <a:avLst/>
            <a:gdLst>
              <a:gd name="textAreaLeft" fmla="*/ 0 w 360360"/>
              <a:gd name="textAreaRight" fmla="*/ 129960 w 36036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090423-OV-beständigkeit-schläuche"/>
          <p:cNvPicPr/>
          <p:nvPr/>
        </p:nvPicPr>
        <p:blipFill>
          <a:blip r:embed="rId4"/>
          <a:stretch/>
        </p:blipFill>
        <p:spPr>
          <a:xfrm>
            <a:off x="1547640" y="3429000"/>
            <a:ext cx="1525680" cy="215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090423-OV-beständigkeit-csa"/>
          <p:cNvPicPr/>
          <p:nvPr/>
        </p:nvPicPr>
        <p:blipFill>
          <a:blip r:embed="rId5"/>
          <a:stretch/>
        </p:blipFill>
        <p:spPr>
          <a:xfrm>
            <a:off x="2340000" y="3933720"/>
            <a:ext cx="15224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324000" y="1906560"/>
            <a:ext cx="7993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Eigenschaf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Gefah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Persönlicher Schu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Einsatzmass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1. Allgemeine Mass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2. Massnahmen bei Stoffaustr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3. Massnahmen bei Feuer (falls Stoff betroff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Erste Hil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Besondere Vorsichtsmassahmen bei der Bergung von Havarieg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 Vorsichtsmassnahmen nach dem Hilfeleistung-Einsa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1. Ablegen der Schutzkleidung (Dekon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2. Reinigung der Ausrüstung (Dekon 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81440" y="1268280"/>
            <a:ext cx="48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I-C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mergency Response Intervention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83960" y="126828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I-C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mergency Response Intervention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5905440" cy="47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1188720" y="458136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33cc"/>
                </a:solidFill>
                <a:uFillTx/>
                <a:latin typeface="Arial"/>
              </a:rPr>
              <a:t>www.ericard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gefahrensymbolel"/>
          <p:cNvPicPr/>
          <p:nvPr/>
        </p:nvPicPr>
        <p:blipFill>
          <a:blip r:embed="rId1"/>
          <a:stretch/>
        </p:blipFill>
        <p:spPr>
          <a:xfrm>
            <a:off x="755640" y="1557360"/>
            <a:ext cx="756288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munitionsbrandklasse"/>
          <p:cNvPicPr/>
          <p:nvPr/>
        </p:nvPicPr>
        <p:blipFill>
          <a:blip r:embed="rId2"/>
          <a:stretch/>
        </p:blipFill>
        <p:spPr>
          <a:xfrm>
            <a:off x="900000" y="4221000"/>
            <a:ext cx="7562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innenschiff-zeichen"/>
          <p:cNvPicPr/>
          <p:nvPr/>
        </p:nvPicPr>
        <p:blipFill>
          <a:blip r:embed="rId1"/>
          <a:stretch/>
        </p:blipFill>
        <p:spPr>
          <a:xfrm>
            <a:off x="900000" y="1628640"/>
            <a:ext cx="7562880" cy="20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warnzeichen"/>
          <p:cNvPicPr/>
          <p:nvPr/>
        </p:nvPicPr>
        <p:blipFill>
          <a:blip r:embed="rId2"/>
          <a:stretch/>
        </p:blipFill>
        <p:spPr>
          <a:xfrm>
            <a:off x="324000" y="4149720"/>
            <a:ext cx="7562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kesselwagen"/>
          <p:cNvPicPr/>
          <p:nvPr/>
        </p:nvPicPr>
        <p:blipFill>
          <a:blip r:embed="rId1"/>
          <a:stretch/>
        </p:blipFill>
        <p:spPr>
          <a:xfrm>
            <a:off x="611280" y="1484280"/>
            <a:ext cx="715320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rohrkennzeichnung-acetylen"/>
          <p:cNvPicPr/>
          <p:nvPr/>
        </p:nvPicPr>
        <p:blipFill>
          <a:blip r:embed="rId2"/>
          <a:stretch/>
        </p:blipFill>
        <p:spPr>
          <a:xfrm>
            <a:off x="755640" y="4508640"/>
            <a:ext cx="71247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908000" y="357336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268960" y="3557520"/>
            <a:ext cx="1608120" cy="156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5"/>
          <a:stretch/>
        </p:blipFill>
        <p:spPr>
          <a:xfrm>
            <a:off x="6996240" y="3573360"/>
            <a:ext cx="1608120" cy="1568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615240" y="1628640"/>
            <a:ext cx="44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e Kennzeichnung G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84320" y="1268280"/>
            <a:ext cx="46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fallmerkbl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iftliche Weisung für den Fahrzeugfüh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74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76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" name="Text Box 10"/>
          <p:cNvSpPr/>
          <p:nvPr/>
        </p:nvSpPr>
        <p:spPr>
          <a:xfrm>
            <a:off x="6159960" y="336708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Unfall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55760" y="2514600"/>
            <a:ext cx="51130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en z.B. Straßenverkehr gemäß A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2807280" y="1377000"/>
            <a:ext cx="360360" cy="3600720"/>
          </a:xfrm>
          <a:custGeom>
            <a:avLst/>
            <a:gdLst>
              <a:gd name="textAreaLeft" fmla="*/ 0 w 360360"/>
              <a:gd name="textAreaRight" fmla="*/ 129960 w 360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1979640" y="3860640"/>
            <a:ext cx="1944720" cy="23767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zeichnung des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G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genscha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utzausrüs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ßnahmen bei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Fe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-Hi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lefonnumm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090423-OV-unfallmerkblatt-2789"/>
          <p:cNvPicPr/>
          <p:nvPr/>
        </p:nvPicPr>
        <p:blipFill>
          <a:blip r:embed="rId4"/>
          <a:stretch/>
        </p:blipFill>
        <p:spPr>
          <a:xfrm>
            <a:off x="1835280" y="3429000"/>
            <a:ext cx="227016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82520" y="126828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fahrgut-Ersteinsa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r. Ing. Hans-Dieter Nüß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88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90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2" name="Text Box 10"/>
          <p:cNvSpPr/>
          <p:nvPr/>
        </p:nvSpPr>
        <p:spPr>
          <a:xfrm>
            <a:off x="6154560" y="3390840"/>
            <a:ext cx="79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Gefahrg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rsteinsat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Nüß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15920" y="2492280"/>
            <a:ext cx="28065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isches Stoff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3056400" y="2492280"/>
            <a:ext cx="30214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isches Stoff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 rot="5400000">
            <a:off x="2807280" y="440640"/>
            <a:ext cx="360360" cy="5473440"/>
          </a:xfrm>
          <a:custGeom>
            <a:avLst/>
            <a:gdLst>
              <a:gd name="textAreaLeft" fmla="*/ 0 w 360360"/>
              <a:gd name="textAreaRight" fmla="*/ 129960 w 36036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1979640" y="3860640"/>
            <a:ext cx="1944720" cy="23767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990800" y="4276800"/>
            <a:ext cx="16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090423-OV-anleitung-nuessler"/>
          <p:cNvPicPr/>
          <p:nvPr/>
        </p:nvPicPr>
        <p:blipFill>
          <a:blip r:embed="rId4"/>
          <a:stretch/>
        </p:blipFill>
        <p:spPr>
          <a:xfrm>
            <a:off x="324000" y="1989000"/>
            <a:ext cx="3620880" cy="486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AutoShape 18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8:17:54Z</dcterms:created>
  <dc:creator/>
  <dc:description/>
  <dc:language>en-US</dc:language>
  <cp:lastModifiedBy>Busch, Horst (NABK)</cp:lastModifiedBy>
  <dcterms:modified xsi:type="dcterms:W3CDTF">2017-10-11T13:48:38Z</dcterms:modified>
  <cp:revision>19</cp:revision>
  <dc:subject/>
  <dc:title>PowerPoint-Präsentation</dc:title>
</cp:coreProperties>
</file>